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6D73-1872-473C-8DFA-0549EF7A3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8A06-75DF-4D2D-B2C9-7B203980F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DF53-E15C-450E-A46F-84B70DAA4A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A98B-D270-484B-844C-1BC29DA373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E7CD-D0F5-42B4-B03B-2C713D5A51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0A97-AD19-49A8-A057-62F5F60B4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04E2-2A1A-46BF-8C42-F3C9F340D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D545-30A6-45CB-89C8-70D18890D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EF67-1F05-4B37-BD0A-E8D300ABE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627D-9473-4F7E-9016-FF2ED55D3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B163-E0B2-4EFB-A666-7AB48202A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8637-898C-49DF-B9FB-86525D0E6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A195-624A-418F-B859-2EFAB2C12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6785-BE7A-4D49-B128-FBE7C80F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A6FA-7325-4134-B562-EAAA244C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6FB9-406C-4877-9BC9-2EECC53E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AE0B-95F3-407D-BC84-26D326C6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439A-6B43-4E6A-BE9F-C5A50AE51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CC0B-E15F-487B-82E9-7924B098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6BBC-C183-4AFA-B7C0-2272E274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1477-D778-49D8-8DF4-1FDA9A15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C453-D7BC-4F60-95D7-9CDB5D9D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DFA3-E456-416C-A3E0-CF8ED1D1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0748-D7ED-4760-84DB-228FCC3B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63E7-81DE-402C-9B25-2458AB04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1EB0-3BE9-4BC2-9894-4C8E0230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0B68-669B-4CC4-876B-0B97EB71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9297-2EC3-47DE-94D0-3CFD6FB0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4B50-0766-4727-994C-B3178DBC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3A18-9890-4453-BBBD-A51BB495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6AAC1-1FEB-4D95-9547-221CC8EA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54282-384A-4705-89F0-D10E64FE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BC390-6CAA-427D-A18D-C8F9C491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8038C-D40C-4C68-A244-118840C7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30D31-35C4-4DE7-B901-C78A8B05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A256-9DF7-4D72-89DA-FA6DFF35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7908C-79E5-4130-8D63-B0E9CADB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D5AFA-B6F3-4595-A21E-559EFF89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71C50-FA26-49B1-96F5-A741EA4A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F0A14-AAEC-4EEF-9425-D81F4C66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2CF93-EA39-4E7F-A1AD-C6563119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9600A-7955-4DE1-91B4-6249824E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A4172-A725-4AF5-93C4-5787808C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04DEF-72DB-4C87-9BDE-F60A0E73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1F009-284B-44E0-8F36-D3BD976A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3DDDA-1C62-4344-94AF-7AADAA77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0DE6-2885-46D1-8387-658E9989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623A7-D070-4555-B147-7621EC3C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44F41-3BB8-47A0-B7F4-4E8299DA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FC0DC-70E6-40E7-A290-F0239D8D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B5A85-9C56-4BAF-B042-69B296A0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383ED-2010-4C51-8132-7AB1BF3E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86212-91D1-48A0-B48A-8685C16D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941BA-C94D-44D4-B78A-443A6A03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8DFB7-453A-4CFF-A14E-5D243555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5B35F-E1D4-4FDF-8A8B-6C2E365C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B306-D0D1-41D6-B035-EEEB61B4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2AEE-D5B8-477E-A9B5-C0B06993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8EB-5D9D-4B07-9E33-75C21FB1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D1D-75F2-4201-8C0C-718E8A23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20F5-8CB8-4010-9709-F2811F08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462D-139F-4672-9B62-6FF4B0559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2512-AC1C-4015-822D-39BC3F82B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8483-47D2-437D-BFA4-2E153AB30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536F-E62C-4F50-BD41-5637DA6CB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772400" cy="3581280"/>
          </a:xfrm>
          <a:prstGeom prst="rect">
            <a:avLst/>
          </a:prstGeom>
          <a:solidFill>
            <a:srgbClr val="bfbfbf"/>
          </a:solidFill>
          <a:ln w="130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urlz MT"/>
              </a:rPr>
              <a:t>Arithmetic  Sequences (Recursive Formulas)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371600"/>
          </a:xfrm>
          <a:prstGeom prst="rect">
            <a:avLst/>
          </a:prstGeom>
          <a:solidFill>
            <a:srgbClr val="bfbfbf"/>
          </a:solidFill>
          <a:ln w="130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urlz MT"/>
              </a:rPr>
              <a:t>Arithmetic Sequence (Recursive) Formul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5" name="TextBox 2"/>
          <p:cNvGrpSpPr/>
          <p:nvPr/>
        </p:nvGrpSpPr>
        <p:grpSpPr>
          <a:xfrm>
            <a:off x="566640" y="1560600"/>
            <a:ext cx="7864560" cy="4906800"/>
            <a:chOff x="566640" y="1560600"/>
            <a:chExt cx="7864560" cy="4906800"/>
          </a:xfrm>
        </p:grpSpPr>
        <p:pic>
          <p:nvPicPr>
            <p:cNvPr id="226" name="TextBox 2" descr=""/>
            <p:cNvPicPr/>
            <p:nvPr/>
          </p:nvPicPr>
          <p:blipFill>
            <a:blip r:embed="rId1"/>
            <a:stretch/>
          </p:blipFill>
          <p:spPr>
            <a:xfrm>
              <a:off x="566640" y="1560600"/>
              <a:ext cx="7864560" cy="49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09480" y="1600200"/>
              <a:ext cx="7772400" cy="47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n =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₁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 Black"/>
                </a:rPr>
                <a:t>+ (n – 1) d    where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n = 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th term (the one you are looking for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₁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Black"/>
                </a:rPr>
                <a:t>=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 Black"/>
                </a:rPr>
                <a:t>s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Black"/>
                </a:rPr>
                <a:t> term in se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 Black"/>
                </a:rPr>
                <a:t>n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Black"/>
                </a:rPr>
                <a:t>=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Black"/>
                </a:rPr>
                <a:t>term numb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 Black"/>
                </a:rPr>
                <a:t>d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Black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Black"/>
                </a:rPr>
                <a:t>  common diffe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TextBox 3"/>
          <p:cNvSpPr/>
          <p:nvPr/>
        </p:nvSpPr>
        <p:spPr>
          <a:xfrm>
            <a:off x="455760" y="5616720"/>
            <a:ext cx="8076960" cy="947160"/>
          </a:xfrm>
          <a:prstGeom prst="rect">
            <a:avLst/>
          </a:prstGeom>
          <a:solidFill>
            <a:srgbClr val="ffff00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find terms deep into a sequence (you must have a sequence identified with a common differ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371600"/>
          </a:xfrm>
          <a:prstGeom prst="rect">
            <a:avLst/>
          </a:prstGeom>
          <a:solidFill>
            <a:srgbClr val="bfbfbf"/>
          </a:solidFill>
          <a:ln w="130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Find the 9th term of the arithmetic sequence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7, 11, 15, 19, ...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0" name="TextBox 2"/>
          <p:cNvGrpSpPr/>
          <p:nvPr/>
        </p:nvGrpSpPr>
        <p:grpSpPr>
          <a:xfrm>
            <a:off x="554040" y="1609560"/>
            <a:ext cx="7864560" cy="5229360"/>
            <a:chOff x="554040" y="1609560"/>
            <a:chExt cx="7864560" cy="5229360"/>
          </a:xfrm>
        </p:grpSpPr>
        <p:pic>
          <p:nvPicPr>
            <p:cNvPr id="231" name="TextBox 2" descr=""/>
            <p:cNvPicPr/>
            <p:nvPr/>
          </p:nvPicPr>
          <p:blipFill>
            <a:blip r:embed="rId1"/>
            <a:stretch/>
          </p:blipFill>
          <p:spPr>
            <a:xfrm>
              <a:off x="554040" y="1609560"/>
              <a:ext cx="7864560" cy="52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8320" y="1650960"/>
              <a:ext cx="7772400" cy="50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Find the common difference, d: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 Black"/>
                </a:rPr>
                <a:t>+4    +4    +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                          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7,   11,   15,    1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So…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d =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Find n: n is the term you are looking for, so…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n = 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Find a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₁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(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 Black"/>
                </a:rPr>
                <a:t>s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term in sequence), so…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a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₁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= 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= a₁ +  (n – 1) 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9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=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7  +  (9 – 1) 4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= 7  +  (8) 4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= 7  +  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= 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371600"/>
          </a:xfrm>
          <a:prstGeom prst="rect">
            <a:avLst/>
          </a:prstGeom>
          <a:solidFill>
            <a:srgbClr val="bfbfbf"/>
          </a:solidFill>
          <a:ln w="130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Find the 12th term in the arithmetic sequence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12, 17, 22, 27,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TextBox 2"/>
          <p:cNvGrpSpPr/>
          <p:nvPr/>
        </p:nvGrpSpPr>
        <p:grpSpPr>
          <a:xfrm>
            <a:off x="554040" y="1609560"/>
            <a:ext cx="7864560" cy="5229360"/>
            <a:chOff x="554040" y="1609560"/>
            <a:chExt cx="7864560" cy="5229360"/>
          </a:xfrm>
        </p:grpSpPr>
        <p:pic>
          <p:nvPicPr>
            <p:cNvPr id="235" name="TextBox 2" descr=""/>
            <p:cNvPicPr/>
            <p:nvPr/>
          </p:nvPicPr>
          <p:blipFill>
            <a:blip r:embed="rId1"/>
            <a:stretch/>
          </p:blipFill>
          <p:spPr>
            <a:xfrm>
              <a:off x="554040" y="1609560"/>
              <a:ext cx="7864560" cy="52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98320" y="1650960"/>
              <a:ext cx="7772400" cy="50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Find the common difference, d: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 Black"/>
                </a:rPr>
                <a:t>+5    +5     +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                         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12,   17,    22,    2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So…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d =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Find n: n is the term you are looking for, so…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n = 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Find a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₁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(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 Black"/>
                </a:rPr>
                <a:t>s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term in sequence), so…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a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₁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= 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 = a₁ +  (n – 1) 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12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=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12  +  (12 – 1) 5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= 12  +  (11) 5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= 12  +  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= 6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371600"/>
          </a:xfrm>
          <a:prstGeom prst="rect">
            <a:avLst/>
          </a:prstGeom>
          <a:solidFill>
            <a:srgbClr val="bfbfbf"/>
          </a:solidFill>
          <a:ln w="130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1600"/>
            </a:b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Write an equation for the </a:t>
            </a: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nth term of the sequence; 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-8,  1,  10,  19 …</a:t>
            </a:r>
            <a:br>
              <a:rPr sz="28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if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TextBox 2"/>
          <p:cNvGrpSpPr/>
          <p:nvPr/>
        </p:nvGrpSpPr>
        <p:grpSpPr>
          <a:xfrm>
            <a:off x="554040" y="1609560"/>
            <a:ext cx="7864560" cy="4951080"/>
            <a:chOff x="554040" y="1609560"/>
            <a:chExt cx="7864560" cy="4951080"/>
          </a:xfrm>
        </p:grpSpPr>
        <p:pic>
          <p:nvPicPr>
            <p:cNvPr id="239" name="TextBox 2" descr=""/>
            <p:cNvPicPr/>
            <p:nvPr/>
          </p:nvPicPr>
          <p:blipFill>
            <a:blip r:embed="rId1"/>
            <a:stretch/>
          </p:blipFill>
          <p:spPr>
            <a:xfrm>
              <a:off x="554040" y="1609560"/>
              <a:ext cx="7864560" cy="485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598320" y="1650960"/>
              <a:ext cx="7772400" cy="49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Find the common difference, d: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 Black"/>
                </a:rPr>
                <a:t>+9   +9    +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                         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-8,    1,   10,   1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So…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d = 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Find a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₁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(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 Black"/>
                </a:rPr>
                <a:t>s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term in sequence), so…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a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₁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= -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Now…substitute and simplify the eq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 = a₁ +  (n – 1) 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n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=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-8  +  (n – 1) 9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use the distributive property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=  -8  +  9n - 9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=  9n - 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371600"/>
          </a:xfrm>
          <a:prstGeom prst="rect">
            <a:avLst/>
          </a:prstGeom>
          <a:solidFill>
            <a:srgbClr val="bfbfbf"/>
          </a:solidFill>
          <a:ln w="130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urlz MT"/>
              </a:rPr>
              <a:t>Vocabulary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TextBox 2"/>
          <p:cNvGrpSpPr/>
          <p:nvPr/>
        </p:nvGrpSpPr>
        <p:grpSpPr>
          <a:xfrm>
            <a:off x="566640" y="1725480"/>
            <a:ext cx="7864560" cy="4888080"/>
            <a:chOff x="566640" y="1725480"/>
            <a:chExt cx="7864560" cy="4888080"/>
          </a:xfrm>
        </p:grpSpPr>
        <p:pic>
          <p:nvPicPr>
            <p:cNvPr id="174" name="TextBox 2" descr=""/>
            <p:cNvPicPr/>
            <p:nvPr/>
          </p:nvPicPr>
          <p:blipFill>
            <a:blip r:embed="rId1"/>
            <a:stretch/>
          </p:blipFill>
          <p:spPr>
            <a:xfrm>
              <a:off x="566640" y="1725480"/>
              <a:ext cx="7864560" cy="48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08040" y="1766880"/>
              <a:ext cx="7773840" cy="47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equence – a set of numbers in a specific order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erms – the numbers in the sequenc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rithmetic sequence – a numerical pattern that increases or decreases at 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onstant rat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ommon difference – the difference between the term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371600"/>
          </a:xfrm>
          <a:prstGeom prst="rect">
            <a:avLst/>
          </a:prstGeom>
          <a:solidFill>
            <a:srgbClr val="bfbfbf"/>
          </a:solidFill>
          <a:ln w="130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urlz MT"/>
              </a:rPr>
              <a:t>What is an arithmetic sequence?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TextBox 2"/>
          <p:cNvGrpSpPr/>
          <p:nvPr/>
        </p:nvGrpSpPr>
        <p:grpSpPr>
          <a:xfrm>
            <a:off x="566640" y="1633680"/>
            <a:ext cx="7864560" cy="3262320"/>
            <a:chOff x="566640" y="1633680"/>
            <a:chExt cx="7864560" cy="3262320"/>
          </a:xfrm>
        </p:grpSpPr>
        <p:pic>
          <p:nvPicPr>
            <p:cNvPr id="178" name="TextBox 2" descr=""/>
            <p:cNvPicPr/>
            <p:nvPr/>
          </p:nvPicPr>
          <p:blipFill>
            <a:blip r:embed="rId2"/>
            <a:stretch/>
          </p:blipFill>
          <p:spPr>
            <a:xfrm>
              <a:off x="566640" y="1633680"/>
              <a:ext cx="7864560" cy="32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09480" y="1676520"/>
              <a:ext cx="777240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 Black"/>
                </a:rPr>
                <a:t>A sequence in which each term is found by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 Black"/>
                </a:rPr>
                <a:t>Adding or Subtracting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 Black"/>
                </a:rPr>
                <a:t> the same number to the previous term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3"/>
          <p:cNvSpPr/>
          <p:nvPr/>
        </p:nvSpPr>
        <p:spPr>
          <a:xfrm>
            <a:off x="493560" y="5029200"/>
            <a:ext cx="8077320" cy="1434600"/>
          </a:xfrm>
          <a:prstGeom prst="rect">
            <a:avLst/>
          </a:prstGeom>
          <a:solidFill>
            <a:srgbClr val="ffff00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,     8,    12 ,   16,    20…………..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92232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444348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201780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324972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1371600"/>
          </a:xfrm>
          <a:prstGeom prst="rect">
            <a:avLst/>
          </a:prstGeom>
          <a:solidFill>
            <a:srgbClr val="bfbfbf"/>
          </a:solidFill>
          <a:ln w="130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urlz MT"/>
              </a:rPr>
              <a:t>What is the common differenc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TextBox 2"/>
          <p:cNvGrpSpPr/>
          <p:nvPr/>
        </p:nvGrpSpPr>
        <p:grpSpPr>
          <a:xfrm>
            <a:off x="719280" y="1633680"/>
            <a:ext cx="7486560" cy="3504960"/>
            <a:chOff x="719280" y="1633680"/>
            <a:chExt cx="7486560" cy="3504960"/>
          </a:xfrm>
        </p:grpSpPr>
        <p:pic>
          <p:nvPicPr>
            <p:cNvPr id="187" name="TextBox 2" descr=""/>
            <p:cNvPicPr/>
            <p:nvPr/>
          </p:nvPicPr>
          <p:blipFill>
            <a:blip r:embed="rId2"/>
            <a:stretch/>
          </p:blipFill>
          <p:spPr>
            <a:xfrm>
              <a:off x="719280" y="1633680"/>
              <a:ext cx="748656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762120" y="1676520"/>
              <a:ext cx="73911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The difference between each number.  This determines what is added to or subtracted from each previous number to obtain the next number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Box 3"/>
          <p:cNvSpPr/>
          <p:nvPr/>
        </p:nvSpPr>
        <p:spPr>
          <a:xfrm>
            <a:off x="609480" y="5219640"/>
            <a:ext cx="8001000" cy="1434600"/>
          </a:xfrm>
          <a:prstGeom prst="rect">
            <a:avLst/>
          </a:prstGeom>
          <a:solidFill>
            <a:srgbClr val="ffff00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, 8, 12, 16, 20……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 is the common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371600"/>
          </a:xfrm>
          <a:prstGeom prst="rect">
            <a:avLst/>
          </a:prstGeom>
          <a:solidFill>
            <a:srgbClr val="bfbfbf"/>
          </a:solidFill>
          <a:ln w="130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urlz MT"/>
              </a:rPr>
              <a:t>Is this an arithmetic sequenc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TextBox 2"/>
          <p:cNvGrpSpPr/>
          <p:nvPr/>
        </p:nvGrpSpPr>
        <p:grpSpPr>
          <a:xfrm>
            <a:off x="646200" y="2475000"/>
            <a:ext cx="7711920" cy="920520"/>
            <a:chOff x="646200" y="2475000"/>
            <a:chExt cx="7711920" cy="920520"/>
          </a:xfrm>
        </p:grpSpPr>
        <p:pic>
          <p:nvPicPr>
            <p:cNvPr id="192" name="TextBox 2" descr=""/>
            <p:cNvPicPr/>
            <p:nvPr/>
          </p:nvPicPr>
          <p:blipFill>
            <a:blip r:embed="rId2"/>
            <a:stretch/>
          </p:blipFill>
          <p:spPr>
            <a:xfrm>
              <a:off x="646200" y="2475000"/>
              <a:ext cx="771192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685800" y="2514600"/>
              <a:ext cx="7620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10, 15, 20, 25, 30…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3"/>
          <p:cNvSpPr/>
          <p:nvPr/>
        </p:nvSpPr>
        <p:spPr>
          <a:xfrm>
            <a:off x="304920" y="3657600"/>
            <a:ext cx="8381880" cy="1983240"/>
          </a:xfrm>
          <a:prstGeom prst="rect">
            <a:avLst/>
          </a:prstGeom>
          <a:solidFill>
            <a:srgbClr val="ffff00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Yes it is an Arithmetic Sequence with +5 as t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 Black"/>
              </a:rPr>
              <a:t>Common Dif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371600"/>
          </a:xfrm>
          <a:prstGeom prst="rect">
            <a:avLst/>
          </a:prstGeom>
          <a:solidFill>
            <a:srgbClr val="bfbfbf"/>
          </a:solidFill>
          <a:ln w="130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urlz MT"/>
              </a:rPr>
              <a:t>Is this an arithmetic sequenc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TextBox 2"/>
          <p:cNvGrpSpPr/>
          <p:nvPr/>
        </p:nvGrpSpPr>
        <p:grpSpPr>
          <a:xfrm>
            <a:off x="262080" y="2475000"/>
            <a:ext cx="8474040" cy="920520"/>
            <a:chOff x="262080" y="2475000"/>
            <a:chExt cx="8474040" cy="920520"/>
          </a:xfrm>
        </p:grpSpPr>
        <p:pic>
          <p:nvPicPr>
            <p:cNvPr id="197" name="TextBox 2" descr=""/>
            <p:cNvPicPr/>
            <p:nvPr/>
          </p:nvPicPr>
          <p:blipFill>
            <a:blip r:embed="rId2"/>
            <a:stretch/>
          </p:blipFill>
          <p:spPr>
            <a:xfrm>
              <a:off x="262080" y="2475000"/>
              <a:ext cx="847404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304920" y="2514600"/>
              <a:ext cx="8381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2, 9, 17, 29, 37…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Box 3"/>
          <p:cNvSpPr/>
          <p:nvPr/>
        </p:nvSpPr>
        <p:spPr>
          <a:xfrm>
            <a:off x="609480" y="3886200"/>
            <a:ext cx="7620120" cy="2775240"/>
          </a:xfrm>
          <a:prstGeom prst="rect">
            <a:avLst/>
          </a:prstGeom>
          <a:solidFill>
            <a:srgbClr val="ffff00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 it is 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NOT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n Arithmetic Sequence because there 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 Black"/>
              </a:rPr>
              <a:t>NO Common Difference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3810240"/>
          </a:xfrm>
          <a:prstGeom prst="rect">
            <a:avLst/>
          </a:prstGeom>
          <a:solidFill>
            <a:srgbClr val="bfbfbf"/>
          </a:solidFill>
          <a:ln w="130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urlz MT"/>
              </a:rPr>
              <a:t>What is the next term in this sequence?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5,  12,  19,  26 , _____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TextBox 2"/>
          <p:cNvGrpSpPr/>
          <p:nvPr/>
        </p:nvGrpSpPr>
        <p:grpSpPr>
          <a:xfrm>
            <a:off x="3309840" y="4834080"/>
            <a:ext cx="2305080" cy="920520"/>
            <a:chOff x="3309840" y="4834080"/>
            <a:chExt cx="2305080" cy="920520"/>
          </a:xfrm>
        </p:grpSpPr>
        <p:pic>
          <p:nvPicPr>
            <p:cNvPr id="202" name="TextBox 2" descr=""/>
            <p:cNvPicPr/>
            <p:nvPr/>
          </p:nvPicPr>
          <p:blipFill>
            <a:blip r:embed="rId2"/>
            <a:stretch/>
          </p:blipFill>
          <p:spPr>
            <a:xfrm>
              <a:off x="3309840" y="4834080"/>
              <a:ext cx="23050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352680" y="4876920"/>
              <a:ext cx="2210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3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Box 4"/>
          <p:cNvSpPr/>
          <p:nvPr/>
        </p:nvSpPr>
        <p:spPr>
          <a:xfrm>
            <a:off x="1691640" y="27432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+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3016440" y="27432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+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4416840" y="27432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+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5791320" y="27702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+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3810240"/>
          </a:xfrm>
          <a:prstGeom prst="rect">
            <a:avLst/>
          </a:prstGeom>
          <a:solidFill>
            <a:srgbClr val="bfbfbf"/>
          </a:solidFill>
          <a:ln w="130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urlz MT"/>
              </a:rPr>
              <a:t>What is the next term in this sequence?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urlz MT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5,   -1,   -7,  -13 , _____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TextBox 2"/>
          <p:cNvGrpSpPr/>
          <p:nvPr/>
        </p:nvGrpSpPr>
        <p:grpSpPr>
          <a:xfrm>
            <a:off x="3998880" y="4986360"/>
            <a:ext cx="1463760" cy="920880"/>
            <a:chOff x="3998880" y="4986360"/>
            <a:chExt cx="1463760" cy="920880"/>
          </a:xfrm>
        </p:grpSpPr>
        <p:pic>
          <p:nvPicPr>
            <p:cNvPr id="210" name="TextBox 2" descr=""/>
            <p:cNvPicPr/>
            <p:nvPr/>
          </p:nvPicPr>
          <p:blipFill>
            <a:blip r:embed="rId2"/>
            <a:stretch/>
          </p:blipFill>
          <p:spPr>
            <a:xfrm>
              <a:off x="3998880" y="4986360"/>
              <a:ext cx="14637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038480" y="5029200"/>
              <a:ext cx="1371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-1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4"/>
          <p:cNvSpPr/>
          <p:nvPr/>
        </p:nvSpPr>
        <p:spPr>
          <a:xfrm>
            <a:off x="1842840" y="274320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3239640" y="274320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6"/>
          <p:cNvSpPr/>
          <p:nvPr/>
        </p:nvSpPr>
        <p:spPr>
          <a:xfrm>
            <a:off x="4647960" y="275760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7"/>
          <p:cNvSpPr/>
          <p:nvPr/>
        </p:nvSpPr>
        <p:spPr>
          <a:xfrm>
            <a:off x="6059160" y="277020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3810240"/>
          </a:xfrm>
          <a:prstGeom prst="rect">
            <a:avLst/>
          </a:prstGeom>
          <a:solidFill>
            <a:srgbClr val="bfbfbf"/>
          </a:solidFill>
          <a:ln w="130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urlz MT"/>
              </a:rPr>
              <a:t>What is the next term in this sequence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urlz MT"/>
              </a:rPr>
              <a:t> 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100,  75,  50 , 25____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TextBox 2"/>
          <p:cNvGrpSpPr/>
          <p:nvPr/>
        </p:nvGrpSpPr>
        <p:grpSpPr>
          <a:xfrm>
            <a:off x="3693960" y="4834080"/>
            <a:ext cx="854280" cy="920520"/>
            <a:chOff x="3693960" y="4834080"/>
            <a:chExt cx="854280" cy="920520"/>
          </a:xfrm>
        </p:grpSpPr>
        <p:pic>
          <p:nvPicPr>
            <p:cNvPr id="218" name="TextBox 2" descr=""/>
            <p:cNvPicPr/>
            <p:nvPr/>
          </p:nvPicPr>
          <p:blipFill>
            <a:blip r:embed="rId2"/>
            <a:stretch/>
          </p:blipFill>
          <p:spPr>
            <a:xfrm>
              <a:off x="3693960" y="4834080"/>
              <a:ext cx="854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3733920" y="487692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Box 4"/>
          <p:cNvSpPr/>
          <p:nvPr/>
        </p:nvSpPr>
        <p:spPr>
          <a:xfrm>
            <a:off x="2272320" y="270504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-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3695400" y="269244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-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5064840" y="267804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-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6498360" y="270504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-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27:52Z</dcterms:created>
  <dc:creator>Jennifer and Gene</dc:creator>
  <dc:description/>
  <dc:language>en-US</dc:language>
  <cp:lastModifiedBy>jeff.bouchard</cp:lastModifiedBy>
  <dcterms:modified xsi:type="dcterms:W3CDTF">2011-11-30T18:45:42Z</dcterms:modified>
  <cp:revision>49</cp:revision>
  <dc:subject/>
  <dc:title>Slide 1</dc:title>
</cp:coreProperties>
</file>